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17.gif" ContentType="image/gif"/>
  <Override PartName="/ppt/media/image16.png" ContentType="image/png"/>
  <Override PartName="/ppt/media/image15.png" ContentType="image/png"/>
  <Override PartName="/ppt/media/image22.gif" ContentType="image/gif"/>
  <Override PartName="/ppt/media/image14.gif" ContentType="image/gif"/>
  <Override PartName="/ppt/media/image21.gif" ContentType="image/gif"/>
  <Override PartName="/ppt/media/image29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9.gif" ContentType="image/gif"/>
  <Override PartName="/ppt/media/image1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24.gif" ContentType="image/gif"/>
  <Override PartName="/ppt/media/image34.gif" ContentType="image/gif"/>
  <Override PartName="/ppt/media/image27.png" ContentType="image/png"/>
  <Override PartName="/ppt/media/image33.png" ContentType="image/png"/>
  <Override PartName="/ppt/media/image40.gif" ContentType="image/gif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C7D-C6CE-4CFC-B44E-C1810DE6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C601-0B63-4366-9387-F430C5B8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7643-665F-4DA3-8624-6A7CD7ED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9F3-57A7-42E7-BD86-51725FAE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838-B668-41A1-B1CB-058A754A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D96C-1266-46C7-8FCF-C6A1EE1B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5FE-4379-411D-B60A-BCC7CC04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9A3-2D4C-4EDF-8859-686CACB3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BD32-7095-4881-B1FF-1815179D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557-F87F-4F3A-8288-3AA1DECE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4E1-D7B3-40B5-AC1E-2975E4B7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90D-6EC0-4D20-90B8-12AC890E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0D7F-84FD-497C-8BAC-680F1C2BD500}" type="slidenum">
              <a:rPr b="0" lang="zh-CN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6.png"/><Relationship Id="rId14" Type="http://schemas.openxmlformats.org/officeDocument/2006/relationships/image" Target="../media/image36.png"/><Relationship Id="rId15" Type="http://schemas.openxmlformats.org/officeDocument/2006/relationships/image" Target="../media/image36.png"/><Relationship Id="rId16" Type="http://schemas.openxmlformats.org/officeDocument/2006/relationships/image" Target="../media/image36.png"/><Relationship Id="rId17" Type="http://schemas.openxmlformats.org/officeDocument/2006/relationships/image" Target="../media/image34.gif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gif"/><Relationship Id="rId21" Type="http://schemas.openxmlformats.org/officeDocument/2006/relationships/image" Target="../media/image39.gif"/><Relationship Id="rId22" Type="http://schemas.openxmlformats.org/officeDocument/2006/relationships/image" Target="../media/image39.gif"/><Relationship Id="rId23" Type="http://schemas.openxmlformats.org/officeDocument/2006/relationships/image" Target="../media/image39.gif"/><Relationship Id="rId24" Type="http://schemas.openxmlformats.org/officeDocument/2006/relationships/image" Target="../media/image39.gif"/><Relationship Id="rId25" Type="http://schemas.openxmlformats.org/officeDocument/2006/relationships/image" Target="../media/image39.gif"/><Relationship Id="rId2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0.gif"/><Relationship Id="rId3" Type="http://schemas.openxmlformats.org/officeDocument/2006/relationships/image" Target="../media/image40.gif"/><Relationship Id="rId4" Type="http://schemas.openxmlformats.org/officeDocument/2006/relationships/image" Target="../media/image40.gif"/><Relationship Id="rId5" Type="http://schemas.openxmlformats.org/officeDocument/2006/relationships/image" Target="../media/image40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0.gif"/><Relationship Id="rId3" Type="http://schemas.openxmlformats.org/officeDocument/2006/relationships/image" Target="../media/image40.gif"/><Relationship Id="rId4" Type="http://schemas.openxmlformats.org/officeDocument/2006/relationships/image" Target="../media/image40.gif"/><Relationship Id="rId5" Type="http://schemas.openxmlformats.org/officeDocument/2006/relationships/image" Target="../media/image40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2071800" y="2071800"/>
            <a:ext cx="60004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esson F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ere Did You Go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2124000" y="836640"/>
            <a:ext cx="6335640" cy="2376360"/>
          </a:xfrm>
          <a:prstGeom prst="wedgeRoundRectCallout">
            <a:avLst>
              <a:gd name="adj1" fmla="val -47342"/>
              <a:gd name="adj2" fmla="val 76185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learn, but he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though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ball was too heavy. He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ketball with a ping-pong ball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4" descr="0060"/>
          <p:cNvPicPr/>
          <p:nvPr/>
        </p:nvPicPr>
        <p:blipFill>
          <a:blip r:embed="rId2"/>
          <a:stretch/>
        </p:blipFill>
        <p:spPr>
          <a:xfrm>
            <a:off x="468360" y="3213000"/>
            <a:ext cx="1655640" cy="26654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987640" y="4292640"/>
            <a:ext cx="4103640" cy="642600"/>
          </a:xfrm>
          <a:prstGeom prst="rect">
            <a:avLst/>
          </a:prstGeom>
          <a:solidFill>
            <a:srgbClr val="c9f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think        though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6" descr="arrow3"/>
          <p:cNvPicPr/>
          <p:nvPr/>
        </p:nvPicPr>
        <p:blipFill>
          <a:blip r:embed="rId3"/>
          <a:stretch/>
        </p:blipFill>
        <p:spPr>
          <a:xfrm>
            <a:off x="4140360" y="4508640"/>
            <a:ext cx="1008000" cy="21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68360" y="1125360"/>
            <a:ext cx="7956360" cy="39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ff"/>
                </a:solidFill>
                <a:latin typeface="Arial"/>
              </a:rPr>
              <a:t>Mrs Smith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Hi, Li Ming! Hi, Jenny! Did you have fun today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ff"/>
                </a:solidFill>
                <a:latin typeface="Arial"/>
              </a:rPr>
              <a:t>Jenny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Yes! We di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ff"/>
                </a:solidFill>
                <a:latin typeface="Arial"/>
              </a:rPr>
              <a:t>Mrs Smith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Where did you go today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ff"/>
                </a:solidFill>
                <a:latin typeface="Arial"/>
              </a:rPr>
              <a:t>Jenny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his morning, we went to the store. We bought a pair of runners and a T-shirt for Li Ming. We bought some ping-pong balls, to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i Ming: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afternoon, we went to the gym with Danny. We played ping-pong. I taught Jenny to hit the ball! Danny wanted to hit the ball, too, but Danny hurt his han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ff"/>
                </a:solidFill>
                <a:latin typeface="Arial"/>
              </a:rPr>
              <a:t>Mrs Smith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d Danny learn to play basketball, too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11" descr="k1"/>
          <p:cNvPicPr/>
          <p:nvPr/>
        </p:nvPicPr>
        <p:blipFill>
          <a:blip r:embed="rId1"/>
          <a:stretch/>
        </p:blipFill>
        <p:spPr>
          <a:xfrm>
            <a:off x="539640" y="404640"/>
            <a:ext cx="295560" cy="360360"/>
          </a:xfrm>
          <a:prstGeom prst="rect">
            <a:avLst/>
          </a:prstGeom>
          <a:ln w="0">
            <a:noFill/>
          </a:ln>
        </p:spPr>
      </p:pic>
      <p:sp>
        <p:nvSpPr>
          <p:cNvPr id="91" name="WordArt 12"/>
          <p:cNvSpPr txBox="1"/>
          <p:nvPr/>
        </p:nvSpPr>
        <p:spPr>
          <a:xfrm>
            <a:off x="1258920" y="476280"/>
            <a:ext cx="6842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Hi, Mum! We're home!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468360" y="5084640"/>
            <a:ext cx="633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i Ming: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 wanted to learn, but he thought the ball was too heavy. He played basketball with a ping-pong ball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298857"/>
          <p:cNvPicPr/>
          <p:nvPr/>
        </p:nvPicPr>
        <p:blipFill>
          <a:blip r:embed="rId1"/>
          <a:stretch/>
        </p:blipFill>
        <p:spPr>
          <a:xfrm>
            <a:off x="-612720" y="549360"/>
            <a:ext cx="2857320" cy="190476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684360" y="2924280"/>
            <a:ext cx="792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Bought, taught and thought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5" name="08 U1 L3 N2 0.mp3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k2"/>
          <p:cNvPicPr/>
          <p:nvPr/>
        </p:nvPicPr>
        <p:blipFill>
          <a:blip r:embed="rId3"/>
          <a:stretch/>
        </p:blipFill>
        <p:spPr>
          <a:xfrm>
            <a:off x="3924360" y="1484280"/>
            <a:ext cx="80496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4546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9" descr="0036"/>
          <p:cNvPicPr/>
          <p:nvPr/>
        </p:nvPicPr>
        <p:blipFill>
          <a:blip r:embed="rId1"/>
          <a:stretch/>
        </p:blipFill>
        <p:spPr>
          <a:xfrm>
            <a:off x="395280" y="3068640"/>
            <a:ext cx="4321080" cy="35514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23"/>
          <p:cNvSpPr/>
          <p:nvPr/>
        </p:nvSpPr>
        <p:spPr>
          <a:xfrm>
            <a:off x="755640" y="333360"/>
            <a:ext cx="7993080" cy="2951280"/>
          </a:xfrm>
          <a:prstGeom prst="cloudCallout">
            <a:avLst>
              <a:gd name="adj1" fmla="val -42671"/>
              <a:gd name="adj2" fmla="val 18046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Jenny and Li Ming often buy some things at the stor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5"/>
          <p:cNvSpPr/>
          <p:nvPr/>
        </p:nvSpPr>
        <p:spPr>
          <a:xfrm>
            <a:off x="1403280" y="476280"/>
            <a:ext cx="7129440" cy="2087640"/>
          </a:xfrm>
          <a:prstGeom prst="cloudCallout">
            <a:avLst>
              <a:gd name="adj1" fmla="val -48106"/>
              <a:gd name="adj2" fmla="val 31976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They usually teach each other a spor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6" descr="0062"/>
          <p:cNvPicPr/>
          <p:nvPr/>
        </p:nvPicPr>
        <p:blipFill>
          <a:blip r:embed="rId2"/>
          <a:stretch/>
        </p:blipFill>
        <p:spPr>
          <a:xfrm>
            <a:off x="900000" y="2637000"/>
            <a:ext cx="3619440" cy="40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5"/>
          <p:cNvSpPr/>
          <p:nvPr/>
        </p:nvSpPr>
        <p:spPr>
          <a:xfrm>
            <a:off x="755640" y="333360"/>
            <a:ext cx="7993080" cy="2519280"/>
          </a:xfrm>
          <a:prstGeom prst="cloudCallout">
            <a:avLst>
              <a:gd name="adj1" fmla="val -42671"/>
              <a:gd name="adj2" fmla="val 29708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Danny always thinks he can catch the ball, but he can’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6" descr="0046"/>
          <p:cNvPicPr/>
          <p:nvPr/>
        </p:nvPicPr>
        <p:blipFill>
          <a:blip r:embed="rId2"/>
          <a:stretch/>
        </p:blipFill>
        <p:spPr>
          <a:xfrm>
            <a:off x="395280" y="2978280"/>
            <a:ext cx="5184720" cy="36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0036"/>
          <p:cNvPicPr/>
          <p:nvPr/>
        </p:nvPicPr>
        <p:blipFill>
          <a:blip r:embed="rId1"/>
          <a:stretch/>
        </p:blipFill>
        <p:spPr>
          <a:xfrm>
            <a:off x="395280" y="3068640"/>
            <a:ext cx="4321080" cy="35514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"/>
          <p:cNvSpPr/>
          <p:nvPr/>
        </p:nvSpPr>
        <p:spPr>
          <a:xfrm>
            <a:off x="755640" y="476280"/>
            <a:ext cx="7704000" cy="2879640"/>
          </a:xfrm>
          <a:prstGeom prst="cloudCallout">
            <a:avLst>
              <a:gd name="adj1" fmla="val -42398"/>
              <a:gd name="adj2" fmla="val 1477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is morning, Jenny and Li Ming </a:t>
            </a: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bought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some things at the stor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900000" y="476280"/>
            <a:ext cx="7561440" cy="2305080"/>
          </a:xfrm>
          <a:prstGeom prst="cloudCallout">
            <a:avLst>
              <a:gd name="adj1" fmla="val -42504"/>
              <a:gd name="adj2" fmla="val 2424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is afternoon, they usually </a:t>
            </a: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taught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each other a spor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3" descr="0062"/>
          <p:cNvPicPr/>
          <p:nvPr/>
        </p:nvPicPr>
        <p:blipFill>
          <a:blip r:embed="rId2"/>
          <a:stretch/>
        </p:blipFill>
        <p:spPr>
          <a:xfrm>
            <a:off x="900000" y="2637000"/>
            <a:ext cx="3619440" cy="40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755640" y="333360"/>
            <a:ext cx="7993080" cy="2951280"/>
          </a:xfrm>
          <a:prstGeom prst="cloudCallout">
            <a:avLst>
              <a:gd name="adj1" fmla="val -42671"/>
              <a:gd name="adj2" fmla="val 18046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anny </a:t>
            </a: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thought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could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hit the ball, but he </a:t>
            </a: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hurt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his hand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0057"/>
          <p:cNvPicPr/>
          <p:nvPr/>
        </p:nvPicPr>
        <p:blipFill>
          <a:blip r:embed="rId2"/>
          <a:stretch/>
        </p:blipFill>
        <p:spPr>
          <a:xfrm>
            <a:off x="250920" y="3146400"/>
            <a:ext cx="4176720" cy="37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95280" y="3789360"/>
            <a:ext cx="83534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is morning, Jenny and Li Ming </a:t>
            </a: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bough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some things at the sto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is afternoon, they usually </a:t>
            </a: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taugh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each other a spor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08 U1 L3 +.mp3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WordArt 9"/>
          <p:cNvSpPr txBox="1"/>
          <p:nvPr/>
        </p:nvSpPr>
        <p:spPr>
          <a:xfrm>
            <a:off x="1187280" y="333360"/>
            <a:ext cx="734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Bought, taught and thought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2" name="Picture 10" descr="k2"/>
          <p:cNvPicPr/>
          <p:nvPr/>
        </p:nvPicPr>
        <p:blipFill>
          <a:blip r:embed="rId2"/>
          <a:stretch/>
        </p:blipFill>
        <p:spPr>
          <a:xfrm>
            <a:off x="468360" y="333360"/>
            <a:ext cx="533520" cy="6494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1"/>
          <p:cNvSpPr/>
          <p:nvPr/>
        </p:nvSpPr>
        <p:spPr>
          <a:xfrm>
            <a:off x="395280" y="1700280"/>
            <a:ext cx="83059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enny and Li Ming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oft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bu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some things at the sto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usuall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teach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each other a spor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nny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alway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think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he can catch the ball, but he can’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WordArt 12"/>
          <p:cNvSpPr txBox="1"/>
          <p:nvPr/>
        </p:nvSpPr>
        <p:spPr>
          <a:xfrm>
            <a:off x="826920" y="3141720"/>
            <a:ext cx="4248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一般过去时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5" name="WordArt 14"/>
          <p:cNvSpPr txBox="1"/>
          <p:nvPr/>
        </p:nvSpPr>
        <p:spPr>
          <a:xfrm>
            <a:off x="971640" y="1125360"/>
            <a:ext cx="424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一般现在时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468360" y="51577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nny </a:t>
            </a: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though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could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hit the ball, but he </a:t>
            </a: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hur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his h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1146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1924" t="3056" r="61628" b="59982"/>
          <a:stretch/>
        </p:blipFill>
        <p:spPr>
          <a:xfrm>
            <a:off x="1116000" y="1197000"/>
            <a:ext cx="2735280" cy="1728720"/>
          </a:xfrm>
          <a:prstGeom prst="rect">
            <a:avLst/>
          </a:prstGeom>
          <a:ln w="57240">
            <a:solidFill>
              <a:srgbClr val="5acea2"/>
            </a:solidFill>
            <a:miter/>
          </a:ln>
        </p:spPr>
      </p:pic>
      <p:pic>
        <p:nvPicPr>
          <p:cNvPr id="43" name="Picture 3" descr=""/>
          <p:cNvPicPr/>
          <p:nvPr/>
        </p:nvPicPr>
        <p:blipFill>
          <a:blip r:embed="rId2"/>
          <a:srcRect l="56721" t="2587" r="13542" b="59235"/>
          <a:stretch/>
        </p:blipFill>
        <p:spPr>
          <a:xfrm>
            <a:off x="4788000" y="1197000"/>
            <a:ext cx="2233440" cy="1787400"/>
          </a:xfrm>
          <a:prstGeom prst="rect">
            <a:avLst/>
          </a:prstGeom>
          <a:ln w="57240">
            <a:solidFill>
              <a:srgbClr val="5acea2"/>
            </a:solidFill>
            <a:miter/>
          </a:ln>
        </p:spPr>
      </p:pic>
      <p:pic>
        <p:nvPicPr>
          <p:cNvPr id="44" name="Picture 4" descr=""/>
          <p:cNvPicPr/>
          <p:nvPr/>
        </p:nvPicPr>
        <p:blipFill>
          <a:blip r:embed="rId3"/>
          <a:srcRect l="950" t="53091" r="53842" b="11510"/>
          <a:stretch/>
        </p:blipFill>
        <p:spPr>
          <a:xfrm>
            <a:off x="4427640" y="3789360"/>
            <a:ext cx="3392280" cy="1655640"/>
          </a:xfrm>
          <a:prstGeom prst="rect">
            <a:avLst/>
          </a:prstGeom>
          <a:ln w="57240">
            <a:solidFill>
              <a:srgbClr val="5acea2"/>
            </a:solidFill>
            <a:miter/>
          </a:ln>
        </p:spPr>
      </p:pic>
      <p:pic>
        <p:nvPicPr>
          <p:cNvPr id="45" name="Picture 5" descr=""/>
          <p:cNvPicPr/>
          <p:nvPr/>
        </p:nvPicPr>
        <p:blipFill>
          <a:blip r:embed="rId4"/>
          <a:srcRect l="57671" t="53091" r="11638" b="8423"/>
          <a:stretch/>
        </p:blipFill>
        <p:spPr>
          <a:xfrm>
            <a:off x="1116000" y="3716280"/>
            <a:ext cx="2303640" cy="1800360"/>
          </a:xfrm>
          <a:prstGeom prst="rect">
            <a:avLst/>
          </a:prstGeom>
          <a:ln w="57240">
            <a:solidFill>
              <a:srgbClr val="5acea2"/>
            </a:solidFill>
            <a:miter/>
          </a:ln>
        </p:spPr>
      </p:pic>
      <p:sp>
        <p:nvSpPr>
          <p:cNvPr id="46" name="Text Box 6"/>
          <p:cNvSpPr/>
          <p:nvPr/>
        </p:nvSpPr>
        <p:spPr>
          <a:xfrm>
            <a:off x="539640" y="4046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你能说出图中的运动名称吗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258920" y="3068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dmin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435640" y="299736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ingpo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5292720" y="5589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occ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187280" y="566100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298857"/>
          <p:cNvPicPr/>
          <p:nvPr/>
        </p:nvPicPr>
        <p:blipFill>
          <a:blip r:embed="rId1"/>
          <a:stretch/>
        </p:blipFill>
        <p:spPr>
          <a:xfrm>
            <a:off x="-612720" y="549360"/>
            <a:ext cx="2857320" cy="190476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1042920" y="3213000"/>
            <a:ext cx="720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Let's sing a song!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9" name="Picture 6" descr="k3"/>
          <p:cNvPicPr/>
          <p:nvPr/>
        </p:nvPicPr>
        <p:blipFill>
          <a:blip r:embed="rId2"/>
          <a:stretch/>
        </p:blipFill>
        <p:spPr>
          <a:xfrm>
            <a:off x="3924360" y="1557360"/>
            <a:ext cx="80496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3"/>
          <p:cNvGrpSpPr/>
          <p:nvPr/>
        </p:nvGrpSpPr>
        <p:grpSpPr>
          <a:xfrm>
            <a:off x="4690440" y="843480"/>
            <a:ext cx="4440600" cy="2871720"/>
            <a:chOff x="4690440" y="843480"/>
            <a:chExt cx="4440600" cy="2871720"/>
          </a:xfrm>
        </p:grpSpPr>
        <p:pic>
          <p:nvPicPr>
            <p:cNvPr id="121" name="Picture 4" descr="287"/>
            <p:cNvPicPr/>
            <p:nvPr/>
          </p:nvPicPr>
          <p:blipFill>
            <a:blip r:embed="rId1"/>
            <a:stretch/>
          </p:blipFill>
          <p:spPr>
            <a:xfrm rot="20494200">
              <a:off x="4762080" y="1446480"/>
              <a:ext cx="3993120" cy="1102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" name="Group 5"/>
            <p:cNvGrpSpPr/>
            <p:nvPr/>
          </p:nvGrpSpPr>
          <p:grpSpPr>
            <a:xfrm>
              <a:off x="4819320" y="1026360"/>
              <a:ext cx="4311720" cy="2688840"/>
              <a:chOff x="4819320" y="1026360"/>
              <a:chExt cx="4311720" cy="2688840"/>
            </a:xfrm>
          </p:grpSpPr>
          <p:pic>
            <p:nvPicPr>
              <p:cNvPr id="123" name="Picture 6" descr="287"/>
              <p:cNvPicPr/>
              <p:nvPr/>
            </p:nvPicPr>
            <p:blipFill>
              <a:blip r:embed="rId2"/>
              <a:stretch/>
            </p:blipFill>
            <p:spPr>
              <a:xfrm rot="20494200">
                <a:off x="4890960" y="1629000"/>
                <a:ext cx="3992760" cy="110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Picture 7" descr="287"/>
              <p:cNvPicPr/>
              <p:nvPr/>
            </p:nvPicPr>
            <p:blipFill>
              <a:blip r:embed="rId3"/>
              <a:stretch/>
            </p:blipFill>
            <p:spPr>
              <a:xfrm rot="20494200">
                <a:off x="4962600" y="1848600"/>
                <a:ext cx="3992760" cy="110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8" descr="287"/>
              <p:cNvPicPr/>
              <p:nvPr/>
            </p:nvPicPr>
            <p:blipFill>
              <a:blip r:embed="rId4"/>
              <a:stretch/>
            </p:blipFill>
            <p:spPr>
              <a:xfrm rot="20494200">
                <a:off x="5065920" y="2009520"/>
                <a:ext cx="3992760" cy="1102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6" name="Text Box 9"/>
          <p:cNvSpPr/>
          <p:nvPr/>
        </p:nvSpPr>
        <p:spPr>
          <a:xfrm>
            <a:off x="408240" y="1052640"/>
            <a:ext cx="8027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cc"/>
                </a:solidFill>
                <a:latin typeface="Arial"/>
              </a:rPr>
              <a:t>Oh, what did you do? Oh, what did you d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cc"/>
                </a:solidFill>
                <a:latin typeface="Arial"/>
              </a:rPr>
              <a:t>Oh, what did you do? Li Ming, Jenn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72680" y="2421000"/>
            <a:ext cx="5532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Arial"/>
              </a:rPr>
              <a:t>We went to a little stor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Arial"/>
              </a:rPr>
              <a:t>We bought a new heavy bal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Arial"/>
              </a:rPr>
              <a:t>We taught each other a spor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Group 12"/>
          <p:cNvGrpSpPr/>
          <p:nvPr/>
        </p:nvGrpSpPr>
        <p:grpSpPr>
          <a:xfrm>
            <a:off x="390240" y="3614040"/>
            <a:ext cx="4259160" cy="1960200"/>
            <a:chOff x="390240" y="3614040"/>
            <a:chExt cx="4259160" cy="1960200"/>
          </a:xfrm>
        </p:grpSpPr>
        <p:pic>
          <p:nvPicPr>
            <p:cNvPr id="129" name="Picture 13" descr="287"/>
            <p:cNvPicPr/>
            <p:nvPr/>
          </p:nvPicPr>
          <p:blipFill>
            <a:blip r:embed="rId5"/>
            <a:stretch/>
          </p:blipFill>
          <p:spPr>
            <a:xfrm rot="21151200">
              <a:off x="433800" y="3869640"/>
              <a:ext cx="3993120" cy="93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" name="Group 14"/>
            <p:cNvGrpSpPr/>
            <p:nvPr/>
          </p:nvGrpSpPr>
          <p:grpSpPr>
            <a:xfrm>
              <a:off x="477720" y="3785400"/>
              <a:ext cx="4171680" cy="1788840"/>
              <a:chOff x="477720" y="3785400"/>
              <a:chExt cx="4171680" cy="1788840"/>
            </a:xfrm>
          </p:grpSpPr>
          <p:pic>
            <p:nvPicPr>
              <p:cNvPr id="131" name="Picture 15" descr="287"/>
              <p:cNvPicPr/>
              <p:nvPr/>
            </p:nvPicPr>
            <p:blipFill>
              <a:blip r:embed="rId6"/>
              <a:stretch/>
            </p:blipFill>
            <p:spPr>
              <a:xfrm rot="21151200">
                <a:off x="521280" y="4041360"/>
                <a:ext cx="399276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16" descr="287"/>
              <p:cNvPicPr/>
              <p:nvPr/>
            </p:nvPicPr>
            <p:blipFill>
              <a:blip r:embed="rId7"/>
              <a:stretch/>
            </p:blipFill>
            <p:spPr>
              <a:xfrm rot="21151200">
                <a:off x="545400" y="4235400"/>
                <a:ext cx="399276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17" descr="287"/>
              <p:cNvPicPr/>
              <p:nvPr/>
            </p:nvPicPr>
            <p:blipFill>
              <a:blip r:embed="rId8"/>
              <a:stretch/>
            </p:blipFill>
            <p:spPr>
              <a:xfrm rot="21151200">
                <a:off x="612720" y="4384800"/>
                <a:ext cx="3992760" cy="933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4" name="Group 19"/>
          <p:cNvGrpSpPr/>
          <p:nvPr/>
        </p:nvGrpSpPr>
        <p:grpSpPr>
          <a:xfrm>
            <a:off x="7936920" y="1263240"/>
            <a:ext cx="686880" cy="730440"/>
            <a:chOff x="7936920" y="1263240"/>
            <a:chExt cx="686880" cy="730440"/>
          </a:xfrm>
        </p:grpSpPr>
        <p:pic>
          <p:nvPicPr>
            <p:cNvPr id="135" name="Picture 20" descr="286"/>
            <p:cNvPicPr/>
            <p:nvPr/>
          </p:nvPicPr>
          <p:blipFill>
            <a:blip r:embed="rId9"/>
            <a:stretch/>
          </p:blipFill>
          <p:spPr>
            <a:xfrm rot="21404400">
              <a:off x="7953120" y="1274760"/>
              <a:ext cx="424440" cy="58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1" descr="286"/>
            <p:cNvPicPr/>
            <p:nvPr/>
          </p:nvPicPr>
          <p:blipFill>
            <a:blip r:embed="rId10"/>
            <a:stretch/>
          </p:blipFill>
          <p:spPr>
            <a:xfrm rot="21404400">
              <a:off x="8182800" y="1392840"/>
              <a:ext cx="424440" cy="58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22"/>
          <p:cNvGrpSpPr/>
          <p:nvPr/>
        </p:nvGrpSpPr>
        <p:grpSpPr>
          <a:xfrm>
            <a:off x="6354360" y="2055960"/>
            <a:ext cx="683280" cy="729720"/>
            <a:chOff x="6354360" y="2055960"/>
            <a:chExt cx="683280" cy="729720"/>
          </a:xfrm>
        </p:grpSpPr>
        <p:pic>
          <p:nvPicPr>
            <p:cNvPr id="138" name="Picture 23" descr="286"/>
            <p:cNvPicPr/>
            <p:nvPr/>
          </p:nvPicPr>
          <p:blipFill>
            <a:blip r:embed="rId11"/>
            <a:stretch/>
          </p:blipFill>
          <p:spPr>
            <a:xfrm rot="21424200">
              <a:off x="6369120" y="2066040"/>
              <a:ext cx="424440" cy="58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4" descr="286"/>
            <p:cNvPicPr/>
            <p:nvPr/>
          </p:nvPicPr>
          <p:blipFill>
            <a:blip r:embed="rId12"/>
            <a:stretch/>
          </p:blipFill>
          <p:spPr>
            <a:xfrm rot="21424200">
              <a:off x="6598440" y="2185560"/>
              <a:ext cx="424440" cy="58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25"/>
          <p:cNvGrpSpPr/>
          <p:nvPr/>
        </p:nvGrpSpPr>
        <p:grpSpPr>
          <a:xfrm>
            <a:off x="3691440" y="3775680"/>
            <a:ext cx="824040" cy="748080"/>
            <a:chOff x="3691440" y="3775680"/>
            <a:chExt cx="824040" cy="748080"/>
          </a:xfrm>
        </p:grpSpPr>
        <p:pic>
          <p:nvPicPr>
            <p:cNvPr id="141" name="Picture 26" descr="286"/>
            <p:cNvPicPr/>
            <p:nvPr/>
          </p:nvPicPr>
          <p:blipFill>
            <a:blip r:embed="rId13"/>
            <a:stretch/>
          </p:blipFill>
          <p:spPr>
            <a:xfrm rot="20618400">
              <a:off x="3765600" y="3823200"/>
              <a:ext cx="424440" cy="58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7" descr="286"/>
            <p:cNvPicPr/>
            <p:nvPr/>
          </p:nvPicPr>
          <p:blipFill>
            <a:blip r:embed="rId14"/>
            <a:stretch/>
          </p:blipFill>
          <p:spPr>
            <a:xfrm rot="20618400">
              <a:off x="4016520" y="3886200"/>
              <a:ext cx="424440" cy="58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28"/>
          <p:cNvGrpSpPr/>
          <p:nvPr/>
        </p:nvGrpSpPr>
        <p:grpSpPr>
          <a:xfrm>
            <a:off x="1606320" y="4423320"/>
            <a:ext cx="819000" cy="747720"/>
            <a:chOff x="1606320" y="4423320"/>
            <a:chExt cx="819000" cy="747720"/>
          </a:xfrm>
        </p:grpSpPr>
        <p:pic>
          <p:nvPicPr>
            <p:cNvPr id="144" name="Picture 29" descr="286"/>
            <p:cNvPicPr/>
            <p:nvPr/>
          </p:nvPicPr>
          <p:blipFill>
            <a:blip r:embed="rId15"/>
            <a:stretch/>
          </p:blipFill>
          <p:spPr>
            <a:xfrm rot="20652000">
              <a:off x="1678320" y="4469760"/>
              <a:ext cx="424440" cy="58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0" descr="286"/>
            <p:cNvPicPr/>
            <p:nvPr/>
          </p:nvPicPr>
          <p:blipFill>
            <a:blip r:embed="rId16"/>
            <a:stretch/>
          </p:blipFill>
          <p:spPr>
            <a:xfrm rot="20652000">
              <a:off x="1928520" y="4534920"/>
              <a:ext cx="424440" cy="58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Picture 33" descr="k3"/>
          <p:cNvPicPr/>
          <p:nvPr/>
        </p:nvPicPr>
        <p:blipFill>
          <a:blip r:embed="rId17"/>
          <a:stretch/>
        </p:blipFill>
        <p:spPr>
          <a:xfrm>
            <a:off x="539640" y="333360"/>
            <a:ext cx="471600" cy="574560"/>
          </a:xfrm>
          <a:prstGeom prst="rect">
            <a:avLst/>
          </a:prstGeom>
          <a:ln w="0">
            <a:noFill/>
          </a:ln>
        </p:spPr>
      </p:pic>
      <p:sp>
        <p:nvSpPr>
          <p:cNvPr id="147" name="WordArt 34"/>
          <p:cNvSpPr txBox="1"/>
          <p:nvPr/>
        </p:nvSpPr>
        <p:spPr>
          <a:xfrm>
            <a:off x="1403280" y="260280"/>
            <a:ext cx="662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Let's sing a song!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48" name="Picture 35" descr="0065"/>
          <p:cNvPicPr/>
          <p:nvPr/>
        </p:nvPicPr>
        <p:blipFill>
          <a:blip r:embed="rId18"/>
          <a:stretch/>
        </p:blipFill>
        <p:spPr>
          <a:xfrm>
            <a:off x="3203640" y="4365720"/>
            <a:ext cx="1171440" cy="2181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6" descr="0064"/>
          <p:cNvPicPr/>
          <p:nvPr/>
        </p:nvPicPr>
        <p:blipFill>
          <a:blip r:embed="rId19"/>
          <a:stretch/>
        </p:blipFill>
        <p:spPr>
          <a:xfrm>
            <a:off x="5076720" y="3716280"/>
            <a:ext cx="1893960" cy="2913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7" descr="music"/>
          <p:cNvPicPr/>
          <p:nvPr/>
        </p:nvPicPr>
        <p:blipFill>
          <a:blip r:embed="rId20"/>
          <a:stretch/>
        </p:blipFill>
        <p:spPr>
          <a:xfrm>
            <a:off x="8172360" y="429264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8" descr="music"/>
          <p:cNvPicPr/>
          <p:nvPr/>
        </p:nvPicPr>
        <p:blipFill>
          <a:blip r:embed="rId21"/>
          <a:stretch/>
        </p:blipFill>
        <p:spPr>
          <a:xfrm>
            <a:off x="8101080" y="400536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9" descr="music"/>
          <p:cNvPicPr/>
          <p:nvPr/>
        </p:nvPicPr>
        <p:blipFill>
          <a:blip r:embed="rId22"/>
          <a:stretch/>
        </p:blipFill>
        <p:spPr>
          <a:xfrm>
            <a:off x="7380360" y="314172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0" descr="music"/>
          <p:cNvPicPr/>
          <p:nvPr/>
        </p:nvPicPr>
        <p:blipFill>
          <a:blip r:embed="rId23"/>
          <a:stretch/>
        </p:blipFill>
        <p:spPr>
          <a:xfrm>
            <a:off x="611280" y="54450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1" descr="music"/>
          <p:cNvPicPr/>
          <p:nvPr/>
        </p:nvPicPr>
        <p:blipFill>
          <a:blip r:embed="rId24"/>
          <a:stretch/>
        </p:blipFill>
        <p:spPr>
          <a:xfrm>
            <a:off x="7236000" y="299736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2" descr="music"/>
          <p:cNvPicPr/>
          <p:nvPr/>
        </p:nvPicPr>
        <p:blipFill>
          <a:blip r:embed="rId25"/>
          <a:stretch/>
        </p:blipFill>
        <p:spPr>
          <a:xfrm>
            <a:off x="395280" y="537372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autoRev="1" nodeType="withEffect" fill="hold" presetClass="path" presetID="4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20608 0.40416 C -0.15243 0.44832 -0.10955 0.47075 -0.10365 0.45942 C -0.09775 0.44786 -0.12986 0.40439 -0.18004 0.35329 C -0.12552 0.39607 -0.08368 0.42057 -0.07761 0.40832 C -0.0717 0.39699 -0.10365 0.35329 -0.15417 0.30312 C -0.09948 0.3452 -0.05729 0.36925 -0.05174 0.35815 C -0.04566 0.34636 -0.07674 0.30104 -0.12726 0.25063 C -0.07361 0.29479 -0.03125 0.31815 -0.02466 0.30543 C -0.01962 0.29595 -0.05087 0.2504 -0.10104 0.19953 C -0.04723 0.24347 -0.00434 0.26612 0.00121 0.25479 C 0.00729 0.24347 -0.02483 0.19977 -0.07535 0.14936 C -0.02049 0.19167 0.0217 0.21526 0.02743 0.20416 C 0.03333 0.1926 0.00139 0.14867 -0.04809 0.09664 C 0.00538 0.14081 0.04774 0.16462 0.05364 0.15306 C 0.05972 0.14127 0.0283 0.09641 -0.02188 0.04624 C 0.03177 0.08971 0.07396 0.11352 0.08073 0.10034 C 0.08646 0.08925 0.05416 0.04578 0.00416 -0.00532 E">
                                      <p:cBhvr>
                                        <p:cTn id="107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autoRev="1" nodeType="withEffect" fill="hold" presetClass="path" presetID="4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28872 0.24116 C -0.23507 0.28532 -0.19219 0.30775 -0.18628 0.29642 C -0.18038 0.28486 -0.2125 0.24116 -0.26267 0.19029 C -0.20816 0.23307 -0.16632 0.25734 -0.16024 0.24532 C -0.15434 0.23399 -0.18628 0.19029 -0.23681 0.14012 C -0.18212 0.1822 -0.13993 0.20625 -0.1342 0.19492 C -0.1283 0.18336 -0.15937 0.13804 -0.2099 0.08763 C -0.15608 0.13156 -0.11389 0.15515 -0.10729 0.14243 C -0.10226 0.13295 -0.13351 0.0874 -0.18368 0.03654 C -0.12986 0.08047 -0.08698 0.10312 -0.08125 0.09156 C -0.07535 0.08047 -0.10747 0.03677 -0.15781 -0.01387 C -0.10295 0.02844 -0.06094 0.05226 -0.05503 0.04093 C -0.04931 0.0296 -0.08125 -0.01433 -0.13073 -0.06659 C -0.07708 -0.02242 -0.0349 0.00162 -0.02899 -0.00994 C -0.02292 -0.02173 -0.05434 -0.06682 -0.10451 -0.11699 C -0.05087 -0.07329 -0.00868 -0.04948 -0.00191 -0.06266 C 0.00382 -0.07375 -0.02847 -0.11722 -0.07847 -0.16832 E">
                                      <p:cBhvr>
                                        <p:cTn id="109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autoRev="1" nodeType="withEffect" fill="hold" presetClass="path" presetID="4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28872 0.24116 C -0.23507 0.28532 -0.19219 0.30775 -0.18628 0.29642 C -0.18038 0.28486 -0.2125 0.24116 -0.26267 0.19029 C -0.20816 0.23307 -0.16632 0.25734 -0.16024 0.24532 C -0.15434 0.23399 -0.18628 0.19029 -0.23681 0.14012 C -0.18212 0.1822 -0.13993 0.20625 -0.1342 0.19492 C -0.1283 0.18336 -0.15937 0.13804 -0.2099 0.08763 C -0.15608 0.13156 -0.11389 0.15515 -0.10729 0.14243 C -0.10226 0.13295 -0.13351 0.0874 -0.18368 0.03654 C -0.12986 0.08047 -0.08698 0.10312 -0.08125 0.09156 C -0.07535 0.08047 -0.10747 0.03677 -0.15781 -0.01387 C -0.10295 0.02844 -0.06094 0.05226 -0.05503 0.04093 C -0.04931 0.0296 -0.08125 -0.01433 -0.13073 -0.06659 C -0.07708 -0.02242 -0.0349 0.00162 -0.02899 -0.00994 C -0.02292 -0.02173 -0.05434 -0.06682 -0.10451 -0.11699 C -0.05087 -0.07329 -0.00868 -0.04948 -0.00191 -0.06266 C 0.00382 -0.07375 -0.02847 -0.11722 -0.07847 -0.16832 E">
                                      <p:cBhvr>
                                        <p:cTn id="111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autoRev="1" nodeType="withEffect" fill="hold" presetClass="path" presetID="4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8108 0.25989 C -0.12743 0.30405 -0.08455 0.32648 -0.07865 0.31515 C -0.07275 0.30359 -0.10486 0.26012 -0.15504 0.20902 C -0.10052 0.2518 -0.05868 0.2763 -0.05261 0.26405 C -0.0467 0.25272 -0.07865 0.20902 -0.12917 0.15885 C -0.07448 0.20093 -0.03229 0.22498 -0.02674 0.21388 C -0.02066 0.20209 -0.05174 0.15677 -0.10226 0.10636 C -0.04861 0.15052 -0.00625 0.17388 0.00034 0.16116 C 0.00538 0.15168 -0.02587 0.10613 -0.07604 0.05526 C -0.02223 0.0992 0.02066 0.12185 0.02621 0.11052 C 0.03229 0.0992 0.000169999999999997 0.0555 -0.05035 0.00509 C 0.00451 0.0474 0.0467 0.07099 0.05243 0.05989 C 0.05833 0.04833 0.02639 0.0044 -0.02309 -0.04763 C 0.03038 -0.00346 0.07274 0.02035 0.07864 0.00879 C 0.08472 -0.003 0.0533 -0.04786 0.00312 -0.09803 C 0.05677 -0.05456 0.09896 -0.03075 0.10573 -0.04393 C 0.11146 -0.05502 0.07916 -0.09849 0.02916 -0.14959 E">
                                      <p:cBhvr>
                                        <p:cTn id="113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900000" y="1700280"/>
            <a:ext cx="10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根据要求填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627280" y="692280"/>
            <a:ext cx="4896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. do (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过去式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) 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. buy (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过去式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) 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. go (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过去式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) 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. hit (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现在分词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) 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5. teach (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名词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) 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6. play (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名词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) 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7. to (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同音词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) 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8. think (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过去式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) 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9. hurt (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过去式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) 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0. old (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反义词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) 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003640" y="692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5076720" y="1341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ou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5003640" y="1844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5219640" y="2421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it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5003640" y="2924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5076720" y="3429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lay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003640" y="4076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o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5219640" y="4581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ou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5148360" y="5157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u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5219640" y="57340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1042920" y="1341360"/>
            <a:ext cx="734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042920" y="765000"/>
            <a:ext cx="7489800" cy="56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 get up at 6 every 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morning      B. afternoon      C. yesterd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e ______ a pair of runners at the store yesterda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buy        B. buys        C. bou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ok, Danny ______ football now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plays        B. played        C. is play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at ____ you do yesterday morning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do         B. does        C. d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e ______ to the shop this morning and bought a footbal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go         B. went        C. go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250920" y="2602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单项选择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71" name="Picture 8" descr="809"/>
          <p:cNvPicPr/>
          <p:nvPr/>
        </p:nvPicPr>
        <p:blipFill>
          <a:blip r:embed="rId1"/>
          <a:stretch/>
        </p:blipFill>
        <p:spPr>
          <a:xfrm>
            <a:off x="971640" y="981000"/>
            <a:ext cx="77148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809"/>
          <p:cNvPicPr/>
          <p:nvPr/>
        </p:nvPicPr>
        <p:blipFill>
          <a:blip r:embed="rId2"/>
          <a:stretch/>
        </p:blipFill>
        <p:spPr>
          <a:xfrm>
            <a:off x="4643280" y="2349360"/>
            <a:ext cx="771840" cy="723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809"/>
          <p:cNvPicPr/>
          <p:nvPr/>
        </p:nvPicPr>
        <p:blipFill>
          <a:blip r:embed="rId3"/>
          <a:stretch/>
        </p:blipFill>
        <p:spPr>
          <a:xfrm>
            <a:off x="5219640" y="3284640"/>
            <a:ext cx="771480" cy="723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809"/>
          <p:cNvPicPr/>
          <p:nvPr/>
        </p:nvPicPr>
        <p:blipFill>
          <a:blip r:embed="rId4"/>
          <a:stretch/>
        </p:blipFill>
        <p:spPr>
          <a:xfrm>
            <a:off x="4572000" y="4221000"/>
            <a:ext cx="771480" cy="723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809"/>
          <p:cNvPicPr/>
          <p:nvPr/>
        </p:nvPicPr>
        <p:blipFill>
          <a:blip r:embed="rId5"/>
          <a:stretch/>
        </p:blipFill>
        <p:spPr>
          <a:xfrm>
            <a:off x="2556000" y="5589720"/>
            <a:ext cx="771480" cy="72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042920" y="1341360"/>
            <a:ext cx="734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042920" y="765000"/>
            <a:ext cx="7705800" cy="56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Did he play basketball, ______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to        B. too       C. tw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They ______ ping-pong yesterday afterno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played        B. playing        C. pl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My book is _____, not heav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light        B. young        C. h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---Did you have fun toda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Yes, we 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do        B. does        C. d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Mum bought a T-shirt _____ m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for         B. of          C.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WordArt 6"/>
          <p:cNvSpPr txBox="1"/>
          <p:nvPr/>
        </p:nvSpPr>
        <p:spPr>
          <a:xfrm>
            <a:off x="250920" y="2602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单项选择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79" name="Picture 7" descr="809"/>
          <p:cNvPicPr/>
          <p:nvPr/>
        </p:nvPicPr>
        <p:blipFill>
          <a:blip r:embed="rId1"/>
          <a:stretch/>
        </p:blipFill>
        <p:spPr>
          <a:xfrm>
            <a:off x="2556000" y="981000"/>
            <a:ext cx="771480" cy="723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809"/>
          <p:cNvPicPr/>
          <p:nvPr/>
        </p:nvPicPr>
        <p:blipFill>
          <a:blip r:embed="rId2"/>
          <a:stretch/>
        </p:blipFill>
        <p:spPr>
          <a:xfrm>
            <a:off x="1042920" y="2060640"/>
            <a:ext cx="771480" cy="723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809"/>
          <p:cNvPicPr/>
          <p:nvPr/>
        </p:nvPicPr>
        <p:blipFill>
          <a:blip r:embed="rId3"/>
          <a:stretch/>
        </p:blipFill>
        <p:spPr>
          <a:xfrm>
            <a:off x="1042920" y="3141720"/>
            <a:ext cx="771480" cy="723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809"/>
          <p:cNvPicPr/>
          <p:nvPr/>
        </p:nvPicPr>
        <p:blipFill>
          <a:blip r:embed="rId4"/>
          <a:stretch/>
        </p:blipFill>
        <p:spPr>
          <a:xfrm>
            <a:off x="4572000" y="4581360"/>
            <a:ext cx="771480" cy="723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809"/>
          <p:cNvPicPr/>
          <p:nvPr/>
        </p:nvPicPr>
        <p:blipFill>
          <a:blip r:embed="rId5"/>
          <a:stretch/>
        </p:blipFill>
        <p:spPr>
          <a:xfrm>
            <a:off x="1116000" y="5661000"/>
            <a:ext cx="771480" cy="7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755640" y="981000"/>
            <a:ext cx="7705800" cy="51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1. did  you  go  w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_________________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2. too  balls  we  ping-pong  bou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_________________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3. to I  went  with  friend  shop  my  t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____________________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4. is  basketball  he  player  a  good  to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____________________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5. heavy  we  a   ball  new  bou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___________________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WordArt 3"/>
          <p:cNvSpPr txBox="1"/>
          <p:nvPr/>
        </p:nvSpPr>
        <p:spPr>
          <a:xfrm>
            <a:off x="395280" y="4762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连词成句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116000" y="148428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Where did you g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187280" y="24922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We bought  ping-pong balls, to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1187280" y="342900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I went to the shop with my frie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187280" y="450864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He is a good basketball player, to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116000" y="5516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We bought a new heavy b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68"/>
          <p:cNvSpPr txBox="1"/>
          <p:nvPr/>
        </p:nvSpPr>
        <p:spPr>
          <a:xfrm rot="1317000">
            <a:off x="2700000" y="2349000"/>
            <a:ext cx="4896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2766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erlin Sans FB Demi"/>
              </a:rPr>
              <a:t>Good Bye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2766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539640" y="4046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做运动时所穿衣服你认识吗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258920" y="3068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unn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651640" y="314172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708360" y="558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-shi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6" descr="图片1"/>
          <p:cNvPicPr/>
          <p:nvPr/>
        </p:nvPicPr>
        <p:blipFill>
          <a:blip r:embed="rId1"/>
          <a:stretch/>
        </p:blipFill>
        <p:spPr>
          <a:xfrm>
            <a:off x="1042920" y="1268280"/>
            <a:ext cx="2592360" cy="1694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2019240" cy="1485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3348000" y="3716280"/>
            <a:ext cx="23335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3"/>
          <p:cNvSpPr/>
          <p:nvPr/>
        </p:nvSpPr>
        <p:spPr>
          <a:xfrm>
            <a:off x="1000080" y="428760"/>
            <a:ext cx="5400720" cy="1225440"/>
          </a:xfrm>
          <a:prstGeom prst="wedgeRoundRectCallout">
            <a:avLst>
              <a:gd name="adj1" fmla="val -38125"/>
              <a:gd name="adj2" fmla="val 69560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re you ready to learn basketball , Li Ming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3214800" y="2143080"/>
            <a:ext cx="4500360" cy="1357200"/>
          </a:xfrm>
          <a:prstGeom prst="wedgeRoundRectCallout">
            <a:avLst>
              <a:gd name="adj1" fmla="val 40629"/>
              <a:gd name="adj2" fmla="val -106166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es! Are you ready to learn ping-pong?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16" descr="0060"/>
          <p:cNvPicPr/>
          <p:nvPr/>
        </p:nvPicPr>
        <p:blipFill>
          <a:blip r:embed="rId3"/>
          <a:stretch/>
        </p:blipFill>
        <p:spPr>
          <a:xfrm>
            <a:off x="7000920" y="428760"/>
            <a:ext cx="1662120" cy="2665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0061"/>
          <p:cNvPicPr/>
          <p:nvPr/>
        </p:nvPicPr>
        <p:blipFill>
          <a:blip r:embed="rId4"/>
          <a:stretch/>
        </p:blipFill>
        <p:spPr>
          <a:xfrm>
            <a:off x="357120" y="1785960"/>
            <a:ext cx="1440000" cy="230328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2"/>
          <p:cNvSpPr/>
          <p:nvPr/>
        </p:nvSpPr>
        <p:spPr>
          <a:xfrm>
            <a:off x="3214800" y="3571920"/>
            <a:ext cx="5400720" cy="1714320"/>
          </a:xfrm>
          <a:prstGeom prst="wedgeRoundRectCallout">
            <a:avLst>
              <a:gd name="adj1" fmla="val -38125"/>
              <a:gd name="adj2" fmla="val 153305"/>
              <a:gd name="adj3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want to learn ,too!Please teach me,to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/>
          <p:cNvSpPr/>
          <p:nvPr/>
        </p:nvSpPr>
        <p:spPr>
          <a:xfrm>
            <a:off x="1332000" y="692280"/>
            <a:ext cx="5400720" cy="720720"/>
          </a:xfrm>
          <a:prstGeom prst="wedgeRoundRectCallout">
            <a:avLst>
              <a:gd name="adj1" fmla="val -38125"/>
              <a:gd name="adj2" fmla="val 153305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g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day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5" descr="0059"/>
          <p:cNvPicPr/>
          <p:nvPr/>
        </p:nvPicPr>
        <p:blipFill>
          <a:blip r:embed="rId2"/>
          <a:stretch/>
        </p:blipFill>
        <p:spPr>
          <a:xfrm>
            <a:off x="684360" y="2133720"/>
            <a:ext cx="2519280" cy="246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0061"/>
          <p:cNvPicPr/>
          <p:nvPr/>
        </p:nvPicPr>
        <p:blipFill>
          <a:blip r:embed="rId3"/>
          <a:stretch/>
        </p:blipFill>
        <p:spPr>
          <a:xfrm>
            <a:off x="6443640" y="2205000"/>
            <a:ext cx="1494000" cy="230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0060"/>
          <p:cNvPicPr/>
          <p:nvPr/>
        </p:nvPicPr>
        <p:blipFill>
          <a:blip r:embed="rId4"/>
          <a:stretch/>
        </p:blipFill>
        <p:spPr>
          <a:xfrm>
            <a:off x="4067280" y="2060640"/>
            <a:ext cx="166212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1908000" y="1052640"/>
            <a:ext cx="6551640" cy="2736720"/>
          </a:xfrm>
          <a:prstGeom prst="wedgeRoundRectCallout">
            <a:avLst>
              <a:gd name="adj1" fmla="val -48060"/>
              <a:gd name="adj2" fmla="val 80685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morning, we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w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the store. We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bough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 pair of runners and a T-shirt for Li Ming. We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bough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ome ping-pong balls, to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6" descr="0061"/>
          <p:cNvPicPr/>
          <p:nvPr/>
        </p:nvPicPr>
        <p:blipFill>
          <a:blip r:embed="rId2"/>
          <a:stretch/>
        </p:blipFill>
        <p:spPr>
          <a:xfrm>
            <a:off x="468360" y="3573360"/>
            <a:ext cx="1439640" cy="2303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2268360" y="4581360"/>
            <a:ext cx="4104000" cy="1477080"/>
          </a:xfrm>
          <a:prstGeom prst="rect">
            <a:avLst/>
          </a:prstGeom>
          <a:solidFill>
            <a:srgbClr val="c9f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go               w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buy            bough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9" descr="arow023"/>
          <p:cNvPicPr/>
          <p:nvPr/>
        </p:nvPicPr>
        <p:blipFill>
          <a:blip r:embed="rId3"/>
          <a:stretch/>
        </p:blipFill>
        <p:spPr>
          <a:xfrm flipH="1">
            <a:off x="3203640" y="4724280"/>
            <a:ext cx="1441440" cy="503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arow023"/>
          <p:cNvPicPr/>
          <p:nvPr/>
        </p:nvPicPr>
        <p:blipFill>
          <a:blip r:embed="rId4"/>
          <a:stretch/>
        </p:blipFill>
        <p:spPr>
          <a:xfrm flipH="1">
            <a:off x="3203640" y="5516640"/>
            <a:ext cx="144144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1403280" y="404640"/>
            <a:ext cx="6408720" cy="3241800"/>
          </a:xfrm>
          <a:prstGeom prst="wedgeRoundRectCallout">
            <a:avLst>
              <a:gd name="adj1" fmla="val -44055"/>
              <a:gd name="adj2" fmla="val 65916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afternoon, we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w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the gym with Danny. We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play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ing-pong. I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taugh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Jenny to hit the ball! Danny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wan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hit the ball, too, but Danny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hur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is han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Picture 7" descr="0060"/>
          <p:cNvPicPr/>
          <p:nvPr/>
        </p:nvPicPr>
        <p:blipFill>
          <a:blip r:embed="rId2"/>
          <a:stretch/>
        </p:blipFill>
        <p:spPr>
          <a:xfrm>
            <a:off x="324000" y="3429000"/>
            <a:ext cx="1655640" cy="2665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1979640" y="4941720"/>
            <a:ext cx="4103640" cy="1739880"/>
          </a:xfrm>
          <a:prstGeom prst="rect">
            <a:avLst/>
          </a:prstGeom>
          <a:solidFill>
            <a:srgbClr val="c9f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go                  w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teach          taugh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hurt                hu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924360" y="3716280"/>
            <a:ext cx="38163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play          play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want        want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10" descr="arrow3"/>
          <p:cNvPicPr/>
          <p:nvPr/>
        </p:nvPicPr>
        <p:blipFill>
          <a:blip r:embed="rId3"/>
          <a:stretch/>
        </p:blipFill>
        <p:spPr>
          <a:xfrm>
            <a:off x="3348000" y="5734080"/>
            <a:ext cx="1008000" cy="21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arrow3"/>
          <p:cNvPicPr/>
          <p:nvPr/>
        </p:nvPicPr>
        <p:blipFill>
          <a:blip r:embed="rId4"/>
          <a:stretch/>
        </p:blipFill>
        <p:spPr>
          <a:xfrm>
            <a:off x="2843280" y="5157720"/>
            <a:ext cx="1008000" cy="21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arrow3"/>
          <p:cNvPicPr/>
          <p:nvPr/>
        </p:nvPicPr>
        <p:blipFill>
          <a:blip r:embed="rId5"/>
          <a:stretch/>
        </p:blipFill>
        <p:spPr>
          <a:xfrm>
            <a:off x="3059280" y="6308640"/>
            <a:ext cx="1008000" cy="21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arrow28"/>
          <p:cNvPicPr/>
          <p:nvPr/>
        </p:nvPicPr>
        <p:blipFill>
          <a:blip r:embed="rId6"/>
          <a:stretch/>
        </p:blipFill>
        <p:spPr>
          <a:xfrm rot="10800000">
            <a:off x="5292360" y="3933360"/>
            <a:ext cx="647640" cy="289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arrow28"/>
          <p:cNvPicPr/>
          <p:nvPr/>
        </p:nvPicPr>
        <p:blipFill>
          <a:blip r:embed="rId7"/>
          <a:stretch/>
        </p:blipFill>
        <p:spPr>
          <a:xfrm rot="10800000">
            <a:off x="5292360" y="4436640"/>
            <a:ext cx="647640" cy="2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>
            <a:off x="1908000" y="1052640"/>
            <a:ext cx="5904000" cy="2376360"/>
          </a:xfrm>
          <a:prstGeom prst="wedgeRoundRectCallout">
            <a:avLst>
              <a:gd name="adj1" fmla="val -44837"/>
              <a:gd name="adj2" fmla="val 74046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play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ketball, too. I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taugh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i Ming to throw and catch the ball. He is a good basketball player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Picture 4" descr="0061"/>
          <p:cNvPicPr/>
          <p:nvPr/>
        </p:nvPicPr>
        <p:blipFill>
          <a:blip r:embed="rId2"/>
          <a:stretch/>
        </p:blipFill>
        <p:spPr>
          <a:xfrm>
            <a:off x="468360" y="3573360"/>
            <a:ext cx="143964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1979640" y="1773360"/>
            <a:ext cx="5400720" cy="1225440"/>
          </a:xfrm>
          <a:prstGeom prst="wedgeRoundRectCallout">
            <a:avLst>
              <a:gd name="adj1" fmla="val -43384"/>
              <a:gd name="adj2" fmla="val 71504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Danny learn to play basketball, too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5" descr="0059"/>
          <p:cNvPicPr/>
          <p:nvPr/>
        </p:nvPicPr>
        <p:blipFill>
          <a:blip r:embed="rId2"/>
          <a:stretch/>
        </p:blipFill>
        <p:spPr>
          <a:xfrm>
            <a:off x="468360" y="2997360"/>
            <a:ext cx="2519280" cy="24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07:59:19Z</dcterms:created>
  <dc:creator> </dc:creator>
  <dc:description> </dc:description>
  <cp:keywords/>
  <dc:language>en-US</dc:language>
  <cp:lastModifiedBy>Administrator</cp:lastModifiedBy>
  <dcterms:modified xsi:type="dcterms:W3CDTF">2015-03-09T10:05:46Z</dcterms:modified>
  <cp:revision>2</cp:revision>
  <dc:subject> </dc:subject>
  <dc:title> </dc:title>
</cp:coreProperties>
</file>